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3EDA-BF06-4B23-BC2D-C8E1C33CB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5CC2-A606-4D01-BC04-B9A0D6802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0339-D9CB-4A13-93F4-640B55911B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F259-8ABB-4898-A7CB-5D97EA0D94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6630-10E0-4C6D-9825-316403C642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354D-4F27-4B86-BE05-533B10248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F59D-D92F-431D-AA8B-077D677718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D920-2AFE-4216-8E1C-98F57D74D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E7D9-F5A9-473D-AE94-9C99CC601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F644-C84F-4659-86DE-43948FA9CE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46AB-DEBA-4F8D-92FD-AB457A74DD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321D-E2C8-4E31-9561-3CEEC332CF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ADF3-7501-407A-B4C0-49519A4770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D55A-18CE-4ED6-BA54-5547FBEFF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8681-BFE4-4FD6-BC91-3B4ED2F74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5479-F276-4E45-A5F5-348A43942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959E-E720-41AA-9C41-5C3EBDD0D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088-96C6-4508-878B-5F18F889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AF2-C667-4F1B-85D8-E5190F3A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C09-56AA-4C85-8F84-B1617083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047-630D-4F63-AF31-B1AC7D56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189-A3EA-41B7-9048-A08ED987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22B8-1573-44A4-9899-A3A4B038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9B4-890E-43BD-81CC-FDEC11E5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5CD-93EE-46B5-8B0A-2474A03C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73C-58BF-4ADA-942C-CB2C30B0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5EC-576B-4BFA-99E9-D4FD90F8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929-3EAD-407F-92FF-8FF7C0AC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D8E-38E6-4856-98A8-22DE8B97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B613-10AC-4ACE-A9EB-0DABE85C5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4800" spc="-1" strike="noStrike">
                <a:solidFill>
                  <a:srgbClr val="0070c0"/>
                </a:solidFill>
                <a:latin typeface="Impact"/>
              </a:rPr>
              <a:t>РАБОТА 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Impact"/>
              </a:rPr>
              <a:t>МАНДАТНОЙ 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Impact"/>
              </a:rPr>
              <a:t>КОМИССИИ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Impact"/>
              </a:rPr>
              <a:t>СОРЕВНОВАНИЙ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Impact"/>
              </a:rPr>
              <a:t> </a:t>
            </a:r>
            <a:br>
              <a:rPr sz="4800"/>
            </a:br>
            <a:br>
              <a:rPr sz="4800"/>
            </a:br>
            <a:br>
              <a:rPr sz="2800"/>
            </a:br>
            <a:br>
              <a:rPr sz="2400"/>
            </a:br>
            <a:br>
              <a:rPr sz="2800"/>
            </a:br>
            <a:br>
              <a:rPr sz="2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07180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Наличие гоночного комитета, публикующего гоночную инструкцию</a:t>
            </a: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4285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Наличие протестового комитета или международного жюри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7176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Наличие мерительного комитета в составе гоночного комитета, публикующего инструкцию о контрольном обмере (осмотре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8572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Публикация результатов соревнования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Наличие отчета проводящей организации (включая отчеты гоночного комитета, протестового комитета/главного ампайра, мерительного комитета) представленного в Исполком ВФПС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ОВАНИЯ И РЕКОМЕНДАЦИИ ПО СОСТАВЛЕНИЮ ПОЛОЖЕНИЙ О СОРЕВНОВАНИЯХ, ВХОДЯЩИХ В КАЛЕНДАРЬ ВФП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00016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я о соревнованиях, входящих в календарь ВФПС, должны соответствовать действующему законодательству РФ и Правилу J1 (Приложения J) действующей редакции ППГ, а наименование дисциплин и классов, в которых проводятся соревнования, - Справочнику классов яхт, ассоциаций классов яхт и дисциплин ВФП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ОВАНИЯ И РЕКОМЕНДАЦИИ ПО СОСТАВЛЕНИЮ ПОЛОЖЕНИЙ О СОРЕВНОВАНИЯХ, ВХОДЯЩИХ В КАЛЕНДАРЬ ВФП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аздел «Допуск» Положения о соревнованиях, имеющих статус «Международное соревнование», «Чемпионат России», «Первенство России», «Кубок России», «Всероссийское соревнование» должна быть включена следующая информа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ОВАНИЯ И РЕКОМЕНДАЦИИ ПО СОСТАВЛЕНИЮ ПОЛОЖЕНИЙ О СОРЕВНОВАНИЯХ, ВХОДЯЩИХ В КАЛЕНДАРЬ ВФП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К участию в соревнованиях, входящих в календарь ВФПС допускаются члены ВФПС – физические лица (для граждан РФ) и юноши и девушки  моложе 18 л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РЕБОВАНИЯ И РЕКОМЕНДАЦИИ ПО СОСТАВЛЕНИЮ ПОЛОЖЕНИЙ О СОРЕВНОВАНИЯХ, ВХОДЯЩИХ В КАЛЕНДАРЬ ВФ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К участию в соревнованиях допускаются спортсмены – не члены ВФПС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при условии оплаты ими стартового взноса в размере, превосходящем индивидуальные членские взносы не менее чем в 3 раза (сумма такого стартового взноса должна быть указана в Положении о соревнован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РЕБОВАНИЯ И РЕКОМЕНДАЦИИ ПО СОСТАВЛЕНИЮ ПОЛОЖЕНИЙ О СОРЕВНОВАНИЯХ, ВХОДЯЩИХ В КАЛЕНДАРЬ ВФП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14308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К участию в Чемпионатах России допускаются участники не моложе 14 лет, на 31 декабря текущего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859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Межрегиональное Соревнование»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ваивается Соревнованиям в классах яхт и дисциплинах, включенных в Справочник классов яхт, ассоциаций классов яхт и дисциплин ВФПС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оторых принимают участие представители из более, чем 1-го субъекта РФ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не удовлетворяющим условиям статуса «Всероссийское соревновани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ОВАНИЯ И РЕКОМЕНДАЦИИ ПО СОСТАВЛЕНИЮ ПОЛОЖЕНИЙ О СОРЕВНОВАНИЯХ, ВХОДЯЩИХ В КАЛЕНДАРЬ ВФП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7140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На все соревнования всероссийского уровня, включая регаты, Первенства и Спартакиады, допускаются участники не моложе 9 лет, на 31 декабря текущего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спортсмены и яхты должны быть застрахованы в соответствии с действующим Положением ВФПС о страхова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овой полис спортсмена от несчастного случая и страховой полис «Ответственность перед третьими лицами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левые (пилоты, водители), кроме зарубежных спортсменов, 19 лет и старше должны иметь спортивный разряд не ниже первого (юноши и девушки - не ниже 1-го юношеского), а так же соответствующие удостоверения на право управления яхтой. Проводящие организации могут устанавливать дополнительные квалификационные требования, которые не должны противоречить требованиям ВФПС и Ассоциаций кла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о к участию в соревнованиях, имеющих статус «Всероссийское соревнование» допускаются рулевые, имеющие разряд не ниже третьего (юноши и девушки – не ниже 2-го юношеского), если положением о соревновании не предусмотрены иные условия допу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Участники моложе 18 лет допускаются к участию в соревнованиях только при наличии представителя и медицинского допуска на данное соревно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ревнованиях юношей (девушек) и юниоров устанавливаются следующие ограничения по возраст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Класс «Оптимист» (юноши и девушки) имеет две возрастные группы: не моложе 9 лет -  не старше 11 лет и не моложе 9 лет - не старше 15 лет на 31 декабря текущего г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  Класс «Кадет» (юноши и девушки) - не моложе 9 лет - не старше 17 лет на 31 декабря текущего г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 Классы «Луч-Мини», «Луч-Радиал», «420», «29-й» (юноши и девушки) - не моложе 12 лет - не старше 18 лет на 31 декабря текущего г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 Класс «Зимний виндсерфинг» (юноши и девушки) - не моложе 10 лет - не старше 18 лет на 31 декабря текущего г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ы «Зум 8», «Европа», парусная доска «Мистраль», парусная доска «Формула», парусная доска «Фанборд» (юниоры и юниорки) - не моложе 12 лет - не старше 19 лет на 31 декабря текущего г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 «Луч» (юниоры) - не моложе 14 лет - не старше 20 лет на 31 декабря текущего г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ы «Финн» (юниоры), «470», буер «DN» (юниоры и юниорки) - не моложе 14 лет -не старше 21 года на 31 декабря текущего г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 «49-й» (юниоры), «49-й FX» (юниорки), «Накра 17» (смешанный разряд) - не моложе 14 лет - не старше 22 лет на 31 декабря текущего г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циплина «Матчевые гонки» (юниоры и юниорки) не моложе 14 лет - не старше 22 лет на 31 декабря текущего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«Лазер 4.7» (юноши, девушки) имеет две возрастные группы: - не моложе 12 лет - не старше 15 лет и не моложе 12 лет - не старше 17 лет на 31 декабря текущего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«Лазер-Радиал» (юноши и девушки, юниоры и юниорки) имеет две возрастные группы: не моложе 12 лет - не старше 16 лет и не моложе 12 лет - не старше 18 лет на 31 декабря текущего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о Класс «Лазер-Радиал» (юниорки) - не моложе 14 лет - не старше 20 лет на 31 декабря текущего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«Лазер-стандарт» (юноши, юниоры) имеет две возрастные группы: не моложе 14 лет - не старше 18 лет и не моложе 14 лет – не старше 20 лет на 31 декабря текущего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2. Стату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российское соревновани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исваивается спортивному соревнованию в классах яхт и дисциплинах, включенных в Справочник классов яхт, ассоциаций классов яхт и дисциплин ВФПС, при условии участия в нем представителей не мене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8 субъектов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бластей, краев и республик в составе РФ), представляющих не мене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 федеральных округов Р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в зимнем виндсерфинге, буере, морских ялах, гонках радиоуправляемых яхт, матчевых гонках, командных гонках, крейсерских (морских) гонках, гонках с пересадкой экипажей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менее 5 субъектов РФ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Класс «Техно» (юноши и девушки) имеет две возрастные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         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с площадью паруса 6,8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не моложе 9 лет - не старше 14 лет на 31 декабря текущего г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   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с площадью паруса 7,8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не моложе 12 лет - не старше 16 лет на 31 декабря текущего г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· Класс «ДНК» (юноши и девушки) не моложе 9 лет - не старше 16 лет на 31 декабря текущего год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 Класс «RS:X» (юноши и девушки, юниоры и юниорки) имеет две возрастные группы: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   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с площадью паруса 8,5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не моложе 12 лет - не старше 18 лет на 31 декабря текущего г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с площадью паруса 9,5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не моложе 14 лет - не старше 20 лет на 31 декабря текущего г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 «Заявки, записи на участие» Положения о соревновании, имеющего статус «Международное соревнование», «Чемпионат России», «Первенство России», «Кубок России», «Всероссийское соревнование», должен включать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смены представляют в мандатную комисс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паспорт (свидетельство о рождении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· подтверждение спортивной квалификации (классификационную книжку/ удостоверение),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· Рулевые – свидетельство о квалификации для управления парусной яхтой соответствующей катего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· страховые полисы, оформленные в соответствии с действующим Положением ВФПС о страхова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Arial"/>
              </a:rPr>
              <a:t>На каждую яхту (снаряд, буер) должны быть представлены действительное мерительное свидетельство или сертификат, если они предусмотрены правилами класса. Мерительное свидетельство или сертификат должны быть зарегистрированы в национальной федерации парусного спорт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 1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уск спортсменов и ях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Форма зая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 положении о соревновании или в приглашении на участие нет формы заявки (правило J1.2(6)), то заявка (запись) на участие подаётся по форме, указанной в Приложении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российская федерация парусного 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Я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частие в соревновании _______________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рганиз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 (тип) ____________ № на парусе _______ «_________________________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зва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 корпуса ____________________ , гоночный балл ____________ м   Коэффициенты: А = ___ , В = ___ 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ой полис 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ипаж суд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ипаж яхты обязуется подчиняться правилам, действующим на соревнов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н (рулевой) 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дпись)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спортсмены тренировку прошли, к соревнованию подготовл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     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амилия и подпись тренера)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организации (владелец яхты) 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.И., должность)           (подпис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чати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Виза врача заверяется печатью медицинского учреждения и требуется только для детских и юношеских экипажей (до 18 лет).** Заполняется для экипажей до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00040" y="2643120"/>
          <a:ext cx="8501040" cy="1143000"/>
        </p:xfrm>
        <a:graphic>
          <a:graphicData uri="http://schemas.openxmlformats.org/drawingml/2006/table">
            <a:tbl>
              <a:tblPr/>
              <a:tblGrid>
                <a:gridCol w="500040"/>
                <a:gridCol w="1071720"/>
                <a:gridCol w="1071360"/>
                <a:gridCol w="1214640"/>
                <a:gridCol w="785880"/>
                <a:gridCol w="785520"/>
                <a:gridCol w="785880"/>
                <a:gridCol w="1071720"/>
                <a:gridCol w="1214280"/>
              </a:tblGrid>
              <a:tr h="77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лностью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честве кого заявл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хтенная квал-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. разряд (звание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ая подпись об умении плав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а* врача о допуске к соревновани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явка оформляется только печатным способо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с разрешения проводящей организации – в электронном вид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юбое исправление должно быть заверено подписью ответственного лица и печатью, если заявка подаётся юридическим лиц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уемые правилами соревнований и положением о соревновании документы на яхту и на членов экипажа проверяет мандатная комиссия, руководимая председателем, которого назначает проводящая организация или — по её поручению – гоночный комит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139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3. Стату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Первенство России»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Кубок России», «Чемпионат России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) Статус «Первенство России», «Кубок России», «Чемпионат России» присваивается Соревнованию в классах яхт и дисциплинах, включенных в Справочник классов яхт, ассоциаций классов яхт и дисциплин ВФПС, и подтверждается в каждом отдельном классе/дисциплине при условии участия представител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менее восьми субъектов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бластей, краев и республик в составе РФ), представляющи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менее четырех федеральных округо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датной комиссией соревнования, проводящей организацией которого является ВФПС, руководит комиссар, назначаемый Исполкомом ВФПС. Председатель гоночного комитета выделяет группу судей для помощи мандатной коми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ительно раздел «Допуск» Положения о соревновании, имеющего статус «Чемпионат России», «Первенство России», должен включать условие допуска: «К участию в Чемпионате и первенстве России допускаются только спортсмены, прошедшие отбор на региональных (областных, краевых, республиканских в составе РФ) соревнованиях, включенные в состав (командировочное удостоверение) команды Субъекта Федерации (Региональной ФПС)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ебования по допу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а) Заявленные яхты и экипажи должны удовлетворять требованиям, изложенным в положении о соревнова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35684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 Допус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а) В соответствии с правилами 75.1 и 89.2(а) допуск яхт и/или экипажей производит проводящая организация, которая может поручить это гоночному комитету (правило 76.1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4200" y="1285560"/>
            <a:ext cx="87868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marL="37440" indent="-37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ОК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ЕДАНИЯ МАНДАТНОЙ КОМИ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вязи с изменением Положения ВФПС о страховании – страховка от несчастного случая членов ВФПС начинает действовать только с 1 числа следующего квар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2428920"/>
          <a:ext cx="8715600" cy="949320"/>
        </p:xfrm>
        <a:graphic>
          <a:graphicData uri="http://schemas.openxmlformats.org/drawingml/2006/table">
            <a:tbl>
              <a:tblPr/>
              <a:tblGrid>
                <a:gridCol w="1143000"/>
                <a:gridCol w="621000"/>
                <a:gridCol w="664920"/>
                <a:gridCol w="928800"/>
                <a:gridCol w="642960"/>
                <a:gridCol w="785880"/>
                <a:gridCol w="857160"/>
                <a:gridCol w="857160"/>
                <a:gridCol w="857160"/>
                <a:gridCol w="785880"/>
                <a:gridCol w="57168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х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спортсме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п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ная книж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стоверение ру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х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овой би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л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ФП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) После окончания проверки документов, с учётом представленного мерительным комитетом Списка яхт, прошедших до начала гонок контрольный обмер или проверку, председатель Мандатной комиссии подписывает Протокол заседания мандатной комиссии (далее Протокол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 допуске яхт, спортсменов и других участ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токол вместе со Списком допущенных яхт и экипажей (далее Список) передаётся в гоночный комитет; формы Протокола и Списка приведены в Приложении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85840" y="856800"/>
            <a:ext cx="840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СЕДАНИЯ МАНДАТНОЙ КОМИ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ревнование __________________________     (название согласно положени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а ____________ Место проведения 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соревнованиям допущено ____ яхт, ____ спортсменов, ____ прочих учас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чания по документ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............. ,     2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едатель мандатной комиссии _______________________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амилия, подпис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ретарь 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амилия, подпис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00040" y="2786040"/>
          <a:ext cx="7858080" cy="1138320"/>
        </p:xfrm>
        <a:graphic>
          <a:graphicData uri="http://schemas.openxmlformats.org/drawingml/2006/table">
            <a:tbl>
              <a:tblPr/>
              <a:tblGrid>
                <a:gridCol w="450720"/>
                <a:gridCol w="1549440"/>
                <a:gridCol w="357480"/>
                <a:gridCol w="1357200"/>
                <a:gridCol w="857160"/>
                <a:gridCol w="1285920"/>
                <a:gridCol w="714240"/>
                <a:gridCol w="12859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\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 ях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н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уживающий персон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42920" y="1071720"/>
            <a:ext cx="87868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ожение к прото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сок допущенных яхт и экипаж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анды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ретарь мандатной комиссии 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амилия, подпис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57120" y="2857680"/>
          <a:ext cx="8358120" cy="1101600"/>
        </p:xfrm>
        <a:graphic>
          <a:graphicData uri="http://schemas.openxmlformats.org/drawingml/2006/table">
            <a:tbl>
              <a:tblPr/>
              <a:tblGrid>
                <a:gridCol w="571680"/>
                <a:gridCol w="785880"/>
                <a:gridCol w="1428480"/>
                <a:gridCol w="1428840"/>
                <a:gridCol w="1071720"/>
                <a:gridCol w="857160"/>
                <a:gridCol w="1071360"/>
                <a:gridCol w="114300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арусе (наз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, Имя пол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р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я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хт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ли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честве кого заявл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На основании Протокола и Списка, указанных в п. (б), секретариат гоночного комитета составляет списки допущенных яхт и/или экипажей по классам (зачетным группам). Эти списки, подписанные председателем гоночного комитета, должны быть вывешены на доске официальных объявлений не позднее, чем за 2 часа до сигнала «Предупреждение» первой го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785960"/>
            <a:ext cx="83296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 зимнем виндсерфинге, буере, морских ялах, гонках радиоуправляемых яхт, матчевых гонках, командных гонках, крейсерских (морских) гонках, гонках с пересадкой экипажей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ее 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бъектов Р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едставляющи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ее трех федеральных округов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ТНАЯ КОМИ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4200" y="1143000"/>
            <a:ext cx="8715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и проведении мандатной комиссии на Спартакиадах необходимо обратить внимание на то, что кроме заявки от субъекта РФ на соревновании подают ещё и индивидуальную заявку на каждый участвующий экипаж и иногда бывает, что между такими заявками имеются расхождения и в Фамилиях, датах рождения, спортивных разрядах. При любых различиях между записями необходимо чтобы представитель команды написал объяснение по поводу этих расхожд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120" y="1285560"/>
            <a:ext cx="85010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ительство определяется по капитану (рулевому, водителю, пилоту). Яхта может представлять только один субъект Р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ждом отдельн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е/дисциплине должны участвова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менее 10 экипаж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в матчевых гонках, командных гонках и гонках с пересадкой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менее 8 экипаж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8592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2.3. Статус «Межрегиональные соревнования», «Всероссийские соревнования», «Первенство России», «Чемпионат России», «Кубок России», «Международное соревнование» подтверждается только Соревнованию с участием парусных яхт/снарядов, имеющему следующие обязательные признаки спортивных соревнова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14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Наличие проводящей организации, публикующей положение о соревновании</a:t>
            </a: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ЛАМЕНТ ВФПС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соревнований по парусному спорту на территории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9976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Соответствие дисциплин, классов яхт, в которых проводится соревнование, Справочнику классов яхт, ассоциаций классов яхт и дисциплин ВФПС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2:27:55Z</dcterms:created>
  <dc:creator>User</dc:creator>
  <dc:description/>
  <dc:language>en-US</dc:language>
  <cp:lastModifiedBy>Яна Добжицкая</cp:lastModifiedBy>
  <dcterms:modified xsi:type="dcterms:W3CDTF">2014-03-20T17:17:42Z</dcterms:modified>
  <cp:revision>150</cp:revision>
  <dc:subject/>
  <dc:title>Краткий список изменений в правилах ППГ -2013-2016</dc:title>
</cp:coreProperties>
</file>